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9.png" ContentType="image/png"/>
  <Override PartName="/ppt/media/image5.jpeg" ContentType="image/jpeg"/>
  <Override PartName="/ppt/media/image32.jpeg" ContentType="image/jpeg"/>
  <Override PartName="/ppt/media/image6.png" ContentType="image/png"/>
  <Override PartName="/ppt/media/image31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FCE6A-ABF8-4176-8620-94D464C913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0E7F3-DE2E-4684-821D-7B170E319A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B723B-34F3-4565-A418-06BDFCD0D4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F9B46-1D1E-494F-B26C-A3340F9958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F1C9D-F4AA-4846-AC45-5DB99D1D83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4E338-8504-468C-BD45-9D2B0FCBE5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37F92-ABBC-4697-8605-3B609B007F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CC03B-E24D-4101-A479-23BBFB3A77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нинградцы переживали величайшую трагедию, какой не переживал ни один город мира. Но люди не сдавались, в городе работали все предприятия. Город не просто жил, он давал фронту танки и самолет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7F575-6118-4C64-ACAB-6B7A8272D2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11B98-1776-4AA1-A665-F91846473E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9FD32-9A7F-463B-B02A-97AF3732B4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C6834-1872-4373-A058-0765DF7934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2BE53-FC2E-4D7A-A410-5AB78A8C87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26E49-D452-4DDB-8ED4-4AACD38E73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3DB4A-BBCA-4492-ABC8-17ECE108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D6C7D-7BE2-4ADA-A3B9-A9F19501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3EBCC-5E21-49CA-BCF4-837972477F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C6658-38BD-416C-8F74-8E231E44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5F096-23D9-4AF6-9686-09615A1A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484E9-F59D-42DE-BCF6-B4761454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7E34-45EF-4C79-A4A2-BA8C3950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AA23-90B0-4BA3-9026-1EB37F12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DF169-0700-4836-93FE-F58AE263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474EB-15BC-4CB6-BD90-5568D34B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C60A1-5C00-4851-918D-9D1C8AB1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7D5ABB-BABF-4C1B-9215-C75DAEB4EE9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C:\Users\user\Desktop\&#1052;&#1059;&#1051;&#1068;&#1058;&#1048;&#1052;&#1045;&#1044;&#1048;&#1040; &#1059;&#1056;&#1054;&#1050; 2015&#187;,\2.avi" TargetMode="Externa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C:\Users\user\Desktop\&#1052;&#1059;&#1051;&#1068;&#1058;&#1048;&#1052;&#1045;&#1044;&#1048;&#1040; &#1059;&#1056;&#1054;&#1050; 2015&#187;,\3.avi" TargetMode="Externa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C:\Users\user\Desktop\&#1052;&#1059;&#1051;&#1068;&#1058;&#1048;&#1052;&#1045;&#1044;&#1048;&#1040; &#1059;&#1056;&#1054;&#1050; 2015&#187;,\1.avi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www.pixnet.ru/wallpapers/4ebe8562ee66f82ebb1f0413729ebb34/4387_5.jpg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/>
          <p:cNvPicPr/>
          <p:nvPr/>
        </p:nvPicPr>
        <p:blipFill>
          <a:blip r:embed="rId2"/>
          <a:stretch/>
        </p:blipFill>
        <p:spPr>
          <a:xfrm>
            <a:off x="133200" y="92160"/>
            <a:ext cx="5670720" cy="3247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642960" y="4071960"/>
            <a:ext cx="51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МАТИКА ВОЙ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http://img.rg.ru/i/gallery/a298f788/c4dfabf3.jpg"/>
          <p:cNvPicPr/>
          <p:nvPr/>
        </p:nvPicPr>
        <p:blipFill>
          <a:blip r:embed="rId1"/>
          <a:stretch/>
        </p:blipFill>
        <p:spPr>
          <a:xfrm>
            <a:off x="0" y="285840"/>
            <a:ext cx="8929800" cy="64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http://www.deafnet.ru/images/Image/2010/SPb_DK_VOG/Blokada_Leningrada/IMG_0001.jpg"/>
          <p:cNvPicPr/>
          <p:nvPr/>
        </p:nvPicPr>
        <p:blipFill>
          <a:blip r:embed="rId1"/>
          <a:stretch/>
        </p:blipFill>
        <p:spPr>
          <a:xfrm>
            <a:off x="84240" y="214200"/>
            <a:ext cx="891684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http://cdn4.img22.ria.ru/images/50376/61/503766120.jpg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s://encrypted-tbn1.gstatic.com/images?q=tbn:ANd9GcQZwo6_l_XAWLYEqWq4_zpvQgAxRjeXe7a4LCYRnlNMAL8JpB-OFA"/>
          <p:cNvPicPr/>
          <p:nvPr/>
        </p:nvPicPr>
        <p:blipFill>
          <a:blip r:embed="rId1"/>
          <a:stretch/>
        </p:blipFill>
        <p:spPr>
          <a:xfrm>
            <a:off x="-14400" y="285840"/>
            <a:ext cx="9158400" cy="6072120"/>
          </a:xfrm>
          <a:prstGeom prst="rect">
            <a:avLst/>
          </a:prstGeom>
          <a:ln w="0">
            <a:noFill/>
          </a:ln>
        </p:spPr>
      </p:pic>
      <p:grpSp>
        <p:nvGrpSpPr>
          <p:cNvPr id="91" name="Управляющая кнопка: фильм 3"/>
          <p:cNvGrpSpPr/>
          <p:nvPr/>
        </p:nvGrpSpPr>
        <p:grpSpPr>
          <a:xfrm>
            <a:off x="8193240" y="5761080"/>
            <a:ext cx="755640" cy="615960"/>
            <a:chOff x="8193240" y="5761080"/>
            <a:chExt cx="755640" cy="615960"/>
          </a:xfrm>
        </p:grpSpPr>
        <p:pic>
          <p:nvPicPr>
            <p:cNvPr id="92" name="Управляющая кнопка: фильм 3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8193240" y="5761080"/>
              <a:ext cx="755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215200" y="5786280"/>
              <a:ext cx="7146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214200" y="357120"/>
            <a:ext cx="392904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ЛО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571680" y="0"/>
            <a:ext cx="607212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Блокада Ленинграда - это неслыханное испытание человека на человечность, достоинство, любовь к близким, сострадание, сердечность. Эти испытания были ежедневными, страшными, потому что голод представить вообще невозможно, не пережив его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28760" y="571680"/>
          <a:ext cx="8429400" cy="6059160"/>
        </p:xfrm>
        <a:graphic>
          <a:graphicData uri="http://schemas.openxmlformats.org/drawingml/2006/table">
            <a:tbl>
              <a:tblPr/>
              <a:tblGrid>
                <a:gridCol w="1404720"/>
                <a:gridCol w="1405080"/>
                <a:gridCol w="1404720"/>
                <a:gridCol w="1405080"/>
                <a:gridCol w="1405080"/>
                <a:gridCol w="1404720"/>
              </a:tblGrid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становления н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бочие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рячих цех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бочие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 ИТ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лужащ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ждивенц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т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 12 л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июля 19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ентября 19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сентября 19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октября 19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ноября 19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ноября 19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декабря 19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января 1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5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февраля 1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февраля 19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97" name="TextBox 5"/>
          <p:cNvSpPr/>
          <p:nvPr/>
        </p:nvSpPr>
        <p:spPr>
          <a:xfrm>
            <a:off x="642960" y="1429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снабжаемого нас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&amp;Pcy;&amp;iecy;&amp;tcy;&amp;iecy;&amp;rcy;&amp;bcy;&amp;ucy;&amp;rcy;&amp;zhcy;&amp;tscy;&amp;acy;&amp;mcy; &amp;pcy;&amp;ocy;&amp;kcy;&amp;acy;&amp;zhcy;&amp;ucy;&amp;tcy; &amp;lcy;&amp;icy;&amp;chcy;&amp;ncy;&amp;ycy;&amp;iecy; &amp;vcy;&amp;iecy;&amp;shchcy;&amp;icy; &amp;zhcy;&amp;icy;&amp;tcy;&amp;iecy;&amp;lcy;&amp;iecy;&amp;jcy; &amp;bcy;&amp;lcy;&amp;ocy;&amp;kcy;&amp;acy;&amp;dcy;&amp;ncy;&amp;ocy;&amp;gcy;&amp;ocy; &amp;Lcy;&amp;iecy;&amp;ncy;&amp;icy;&amp;ncy;&amp;gcy;&amp;rcy;&amp;acy;&amp;dcy;&amp;acy; - Metro"/>
          <p:cNvPicPr/>
          <p:nvPr/>
        </p:nvPicPr>
        <p:blipFill>
          <a:blip r:embed="rId1"/>
          <a:stretch/>
        </p:blipFill>
        <p:spPr>
          <a:xfrm>
            <a:off x="0" y="0"/>
            <a:ext cx="4357800" cy="35719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" descr="&amp;YAcy; &amp;ncy;&amp;iecy; &amp;iecy;&amp;mcy; &amp;tcy;&amp;iecy;&amp;khcy;, &amp;kcy;&amp;tcy;&amp;ocy; &amp;ncy;&amp;acy; &amp;mcy;&amp;iecy;&amp;ncy;&amp;yacy; &amp;scy;&amp;mcy;&amp;ocy;&amp;tcy;&amp;rcy;&amp;icy;&amp;tcy;. - &amp;Bcy;&amp;lcy;&amp;ocy;&amp;kcy;&amp;acy;&amp;dcy;&amp;ncy;&amp;ycy;&amp;jcy; &amp;khcy;&amp;lcy;&amp;iecy;&amp;bcy;"/>
          <p:cNvPicPr/>
          <p:nvPr/>
        </p:nvPicPr>
        <p:blipFill>
          <a:blip r:embed="rId2"/>
          <a:srcRect l="0" t="21668" r="0" b="0"/>
          <a:stretch/>
        </p:blipFill>
        <p:spPr>
          <a:xfrm>
            <a:off x="4357800" y="3500280"/>
            <a:ext cx="4786200" cy="33577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&amp;Pcy;&amp;ocy;&amp;pcy;&amp;rcy;&amp;ocy;&amp;bcy;&amp;ocy;&amp;vcy;&amp;acy;&amp;lcy;&amp;icy; &amp;khcy;&amp;lcy;&amp;iecy;&amp;bcy; &amp;bcy;&amp;lcy;&amp;ocy;&amp;kcy;&amp;acy;&amp;dcy;&amp;ncy;&amp;ocy;&amp;gcy;&amp;ocy; &amp;Lcy;&amp;iecy;&amp;ncy;&amp;icy;&amp;ncy;&amp;gcy;&amp;rcy;&amp;acy;&amp;dcy;&amp;acy; Tverigrad.ru"/>
          <p:cNvPicPr/>
          <p:nvPr/>
        </p:nvPicPr>
        <p:blipFill>
          <a:blip r:embed="rId3"/>
          <a:srcRect l="4913" t="0" r="3276" b="0"/>
          <a:stretch/>
        </p:blipFill>
        <p:spPr>
          <a:xfrm>
            <a:off x="214200" y="3786120"/>
            <a:ext cx="4000680" cy="27147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5"/>
          <p:cNvSpPr/>
          <p:nvPr/>
        </p:nvSpPr>
        <p:spPr>
          <a:xfrm>
            <a:off x="5214960" y="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5 блокадных грамм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4572000" y="428760"/>
            <a:ext cx="4286160" cy="294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шумите вокруг - он дышит,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живой еще, он все слышит..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из недр его вопли: "Хлеба!" -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 седьмого доходят неба..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безжалостна эта твердь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глядит из всех окон - смер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Анна Ахмат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кспонаты музея Истории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то уча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9280" y="144000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4500720" y="323064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072440" y="511956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адный хле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20560" y="180036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этих предме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товили ед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локадном гор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2"/>
          <a:stretch/>
        </p:blipFill>
        <p:spPr>
          <a:xfrm>
            <a:off x="1566720" y="2212920"/>
            <a:ext cx="5857920" cy="19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1066680" y="1908000"/>
            <a:ext cx="6853320" cy="38530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357280" y="2428920"/>
            <a:ext cx="571680" cy="928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4214880" y="2428920"/>
            <a:ext cx="571320" cy="928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4786200" y="2428920"/>
            <a:ext cx="571680" cy="928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5357880" y="2500200"/>
            <a:ext cx="642960" cy="1000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6000840" y="2500200"/>
            <a:ext cx="571320" cy="928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10"/>
          <p:cNvSpPr/>
          <p:nvPr/>
        </p:nvSpPr>
        <p:spPr>
          <a:xfrm>
            <a:off x="2928960" y="2428920"/>
            <a:ext cx="571320" cy="928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11"/>
          <p:cNvSpPr/>
          <p:nvPr/>
        </p:nvSpPr>
        <p:spPr>
          <a:xfrm>
            <a:off x="3571920" y="2428920"/>
            <a:ext cx="571320" cy="928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12"/>
          <p:cNvSpPr/>
          <p:nvPr/>
        </p:nvSpPr>
        <p:spPr>
          <a:xfrm>
            <a:off x="1643040" y="3643200"/>
            <a:ext cx="571680" cy="928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13"/>
          <p:cNvSpPr/>
          <p:nvPr/>
        </p:nvSpPr>
        <p:spPr>
          <a:xfrm>
            <a:off x="2286000" y="3571920"/>
            <a:ext cx="571680" cy="928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14"/>
          <p:cNvSpPr/>
          <p:nvPr/>
        </p:nvSpPr>
        <p:spPr>
          <a:xfrm>
            <a:off x="2786040" y="3571920"/>
            <a:ext cx="571680" cy="928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15"/>
          <p:cNvSpPr/>
          <p:nvPr/>
        </p:nvSpPr>
        <p:spPr>
          <a:xfrm>
            <a:off x="3429000" y="3714840"/>
            <a:ext cx="571680" cy="928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16"/>
          <p:cNvSpPr/>
          <p:nvPr/>
        </p:nvSpPr>
        <p:spPr>
          <a:xfrm>
            <a:off x="4000680" y="3714840"/>
            <a:ext cx="571320" cy="928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17"/>
          <p:cNvSpPr/>
          <p:nvPr/>
        </p:nvSpPr>
        <p:spPr>
          <a:xfrm>
            <a:off x="4572000" y="3714840"/>
            <a:ext cx="571680" cy="928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Прямоугольник 18"/>
          <p:cNvSpPr/>
          <p:nvPr/>
        </p:nvSpPr>
        <p:spPr>
          <a:xfrm>
            <a:off x="5000760" y="3714840"/>
            <a:ext cx="571320" cy="928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Прямоугольник 19"/>
          <p:cNvSpPr/>
          <p:nvPr/>
        </p:nvSpPr>
        <p:spPr>
          <a:xfrm>
            <a:off x="5500800" y="3714840"/>
            <a:ext cx="571320" cy="928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оугольник 20"/>
          <p:cNvSpPr/>
          <p:nvPr/>
        </p:nvSpPr>
        <p:spPr>
          <a:xfrm>
            <a:off x="6072120" y="3714840"/>
            <a:ext cx="642960" cy="1000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Прямоугольник 21"/>
          <p:cNvSpPr/>
          <p:nvPr/>
        </p:nvSpPr>
        <p:spPr>
          <a:xfrm>
            <a:off x="6715080" y="3714840"/>
            <a:ext cx="571680" cy="928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2500200" y="2571840"/>
            <a:ext cx="2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23"/>
          <p:cNvSpPr/>
          <p:nvPr/>
        </p:nvSpPr>
        <p:spPr>
          <a:xfrm>
            <a:off x="3071880" y="264312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тская рука, теряющая силы от голода, писала неровно, скупо. Хрупкая душа, пораженная невыносимыми страданиями, была уже не способна на живые эмоции. Таня просто фиксировала реальные факты своего бытия - трагические «визиты смерти» в родной дом. И когда читаешь это, цепенееш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28 декабря 1941 года. Женя умерла в 12.30 ночи.1941 год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Бабушка умерла 25 января в 3 часа 1942 г.»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Лека умер 17 марта в 5 часов утра. 1942 г.»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Дядя Вася умер 13 апреля в 2 часа дня. 1942 год»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Дядя Леша, 10 мая в 4 часа дня. 1942 год»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Мама – 13 марта в 7 часов 30 минут утра. 1942»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Умерли все». «Осталась одна Таня»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285840" y="214200"/>
            <a:ext cx="864396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данным исследований конц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 – примерно 1,5 млн. погибло от голода, холода, бомбежек и обстрелов, под развалинами домов (на Нюрнбергском процессе фигурировало число 632 тысячи человек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ько 3 % из них погибли от бомбёжек и артобстрелов; остальные 97 % умерли от гол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Рисунок 2" descr="&amp;Ocy;&amp;tcy;&amp;vcy;&amp;iecy;&amp;tcy;&amp;ycy;@Mail.Ru: &amp;Ncy;&amp;ocy;&amp;rcy;&amp;mcy;&amp;ycy; &amp;iecy;&amp;dcy;&amp;ycy; &amp;bcy;&amp;lcy;&amp;ocy;&amp;kcy;&amp;acy;&amp;dcy;&amp;ncy;&amp;ocy;&amp;gcy;&amp;ocy; &amp;Lcy;&amp;iecy;&amp;ncy;&amp;icy;&amp;ncy;&amp;gcy;&amp;rcy;&amp;acy;&amp;dcy;&amp;acy;?"/>
          <p:cNvPicPr/>
          <p:nvPr/>
        </p:nvPicPr>
        <p:blipFill>
          <a:blip r:embed="rId1"/>
          <a:stretch/>
        </p:blipFill>
        <p:spPr>
          <a:xfrm>
            <a:off x="142920" y="2071800"/>
            <a:ext cx="3714840" cy="4429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rcRect l="8071" t="3866" r="6457" b="28548"/>
          <a:stretch/>
        </p:blipFill>
        <p:spPr>
          <a:xfrm>
            <a:off x="3927600" y="2571840"/>
            <a:ext cx="4975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642960" y="57168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55000 человек умерло от голода в блокадном Ленингра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1000080" y="228600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городе Сочи проживает около 400000 ж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928800" y="33577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455000 : 400000 = 1455 : 400 = 3,6375 = 3,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ая соединительная линия 5"/>
          <p:cNvSpPr/>
          <p:nvPr/>
        </p:nvSpPr>
        <p:spPr>
          <a:xfrm>
            <a:off x="3071880" y="3357720"/>
            <a:ext cx="571320" cy="35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ая соединительная линия 6"/>
          <p:cNvSpPr/>
          <p:nvPr/>
        </p:nvSpPr>
        <p:spPr>
          <a:xfrm>
            <a:off x="1857240" y="3357720"/>
            <a:ext cx="642960" cy="35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28760" y="4500720"/>
            <a:ext cx="84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еление  3,6 городов таких как Сочи погибли от голода за время блока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2"/>
          <a:stretch/>
        </p:blipFill>
        <p:spPr>
          <a:xfrm>
            <a:off x="905040" y="100080"/>
            <a:ext cx="7735680" cy="20606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2"/>
          <p:cNvSpPr/>
          <p:nvPr/>
        </p:nvSpPr>
        <p:spPr>
          <a:xfrm>
            <a:off x="1285920" y="1928880"/>
            <a:ext cx="76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30 километров по тонкому льд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1"/>
          <p:cNvSpPr/>
          <p:nvPr/>
        </p:nvSpPr>
        <p:spPr>
          <a:xfrm rot="1860000">
            <a:off x="1917720" y="1357200"/>
            <a:ext cx="977760" cy="486000"/>
          </a:xfrm>
          <a:custGeom>
            <a:avLst/>
            <a:gdLst>
              <a:gd name="textAreaLeft" fmla="*/ 121320 w 977760"/>
              <a:gd name="textAreaRight" fmla="*/ 856440 w 9777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35" y="5400"/>
                </a:lnTo>
                <a:lnTo>
                  <a:pt x="16235" y="0"/>
                </a:lnTo>
                <a:lnTo>
                  <a:pt x="21600" y="10800"/>
                </a:lnTo>
                <a:lnTo>
                  <a:pt x="16235" y="21600"/>
                </a:lnTo>
                <a:lnTo>
                  <a:pt x="16235" y="16200"/>
                </a:lnTo>
                <a:lnTo>
                  <a:pt x="0" y="16200"/>
                </a:lnTo>
                <a:lnTo>
                  <a:pt x="268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"/>
          <p:cNvSpPr/>
          <p:nvPr/>
        </p:nvSpPr>
        <p:spPr>
          <a:xfrm rot="1920000">
            <a:off x="2930040" y="2071440"/>
            <a:ext cx="978120" cy="484200"/>
          </a:xfrm>
          <a:custGeom>
            <a:avLst/>
            <a:gdLst>
              <a:gd name="textAreaLeft" fmla="*/ 120960 w 978120"/>
              <a:gd name="textAreaRight" fmla="*/ 857160 w 9781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 rot="1380000">
            <a:off x="4057560" y="2500200"/>
            <a:ext cx="978120" cy="486000"/>
          </a:xfrm>
          <a:custGeom>
            <a:avLst/>
            <a:gdLst>
              <a:gd name="textAreaLeft" fmla="*/ 121320 w 978120"/>
              <a:gd name="textAreaRight" fmla="*/ 856800 w 9781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35" y="5400"/>
                </a:lnTo>
                <a:lnTo>
                  <a:pt x="16235" y="0"/>
                </a:lnTo>
                <a:lnTo>
                  <a:pt x="21600" y="10800"/>
                </a:lnTo>
                <a:lnTo>
                  <a:pt x="16235" y="21600"/>
                </a:lnTo>
                <a:lnTo>
                  <a:pt x="16235" y="16200"/>
                </a:lnTo>
                <a:lnTo>
                  <a:pt x="0" y="16200"/>
                </a:lnTo>
                <a:lnTo>
                  <a:pt x="268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 rot="2880000">
            <a:off x="4973400" y="3397320"/>
            <a:ext cx="979560" cy="484200"/>
          </a:xfrm>
          <a:custGeom>
            <a:avLst/>
            <a:gdLst>
              <a:gd name="textAreaLeft" fmla="*/ 120960 w 979560"/>
              <a:gd name="textAreaRight" fmla="*/ 858600 w 9795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61" y="5400"/>
                </a:lnTo>
                <a:lnTo>
                  <a:pt x="16261" y="0"/>
                </a:lnTo>
                <a:lnTo>
                  <a:pt x="21600" y="10800"/>
                </a:lnTo>
                <a:lnTo>
                  <a:pt x="16261" y="21600"/>
                </a:lnTo>
                <a:lnTo>
                  <a:pt x="16261" y="16200"/>
                </a:lnTo>
                <a:lnTo>
                  <a:pt x="0" y="16200"/>
                </a:lnTo>
                <a:lnTo>
                  <a:pt x="267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0" y="5429160"/>
            <a:ext cx="8715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зено: 1млн. 615 тыс. тонн груза;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езено: 1 млн. 376 тыс. человек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.alexfl.ru/vechnoe/foto/leningrad5.jpg"/>
          <p:cNvPicPr/>
          <p:nvPr/>
        </p:nvPicPr>
        <p:blipFill>
          <a:blip r:embed="rId1"/>
          <a:stretch/>
        </p:blipFill>
        <p:spPr>
          <a:xfrm>
            <a:off x="0" y="0"/>
            <a:ext cx="9102600" cy="564372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2"/>
          <p:cNvSpPr/>
          <p:nvPr/>
        </p:nvSpPr>
        <p:spPr>
          <a:xfrm>
            <a:off x="1169640" y="5715000"/>
            <a:ext cx="691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Ленинград фронту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s://encrypted-tbn0.gstatic.com/images?q=tbn:ANd9GcQEWCpJvQydlc1mB_Hz4IgWpHxuXQ-xptXpMQYXZ7qRHrh4Mtyc"/>
          <p:cNvPicPr/>
          <p:nvPr/>
        </p:nvPicPr>
        <p:blipFill>
          <a:blip r:embed="rId1"/>
          <a:stretch/>
        </p:blipFill>
        <p:spPr>
          <a:xfrm>
            <a:off x="0" y="0"/>
            <a:ext cx="9148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ic.pics.livejournal.com/bspb/40512798/53228/53228_600.jpg"/>
          <p:cNvPicPr/>
          <p:nvPr/>
        </p:nvPicPr>
        <p:blipFill>
          <a:blip r:embed="rId1"/>
          <a:stretch/>
        </p:blipFill>
        <p:spPr>
          <a:xfrm>
            <a:off x="0" y="0"/>
            <a:ext cx="9063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www.vestarchive.ru/images/stories/FOTOS/837c9c3f999480e2d3a1507196f.jpg"/>
          <p:cNvPicPr/>
          <p:nvPr/>
        </p:nvPicPr>
        <p:blipFill>
          <a:blip r:embed="rId1"/>
          <a:stretch/>
        </p:blipFill>
        <p:spPr>
          <a:xfrm>
            <a:off x="0" y="0"/>
            <a:ext cx="91994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211680" y="1077840"/>
            <a:ext cx="836172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Слава и тебе, великий город,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вший воедино фронт и тыл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ебывалых трудностях который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тоял. Сражался. Победил"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5286240" y="4357800"/>
            <a:ext cx="19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а Инбе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0" y="3240000"/>
            <a:ext cx="8999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локада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Ленинграда — военная блокада немецкими, финскими и испанскими войсками во время Великой Отечественной войны Ленинграда (ныне Санкт-Петербург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лилась с 8 сентября 1941 по 27 января 1944 (блокадное кольцо было прорвано 18 января 1943 года) — 871 дн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3"/>
          <p:cNvSpPr/>
          <p:nvPr/>
        </p:nvSpPr>
        <p:spPr>
          <a:xfrm>
            <a:off x="1000080" y="285840"/>
            <a:ext cx="6357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, кто пережил блокаду, были обычными людьми. Они сумели совершить невозможное - пережить ледяной ад. И не только пережить, но и остаться людьми. Они уходят, и вместе с ними уходит история. От нас зависит, чтобы она не ушл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всегд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Управляющая кнопка: фильм 4"/>
          <p:cNvGrpSpPr/>
          <p:nvPr/>
        </p:nvGrpSpPr>
        <p:grpSpPr>
          <a:xfrm>
            <a:off x="7974000" y="5907240"/>
            <a:ext cx="615960" cy="542880"/>
            <a:chOff x="7974000" y="5907240"/>
            <a:chExt cx="615960" cy="542880"/>
          </a:xfrm>
        </p:grpSpPr>
        <p:pic>
          <p:nvPicPr>
            <p:cNvPr id="135" name="Управляющая кнопка: фильм 4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974000" y="5907240"/>
              <a:ext cx="6159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001000" y="5929200"/>
              <a:ext cx="5716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2"/>
          <a:stretch/>
        </p:blipFill>
        <p:spPr>
          <a:xfrm>
            <a:off x="566640" y="603360"/>
            <a:ext cx="8010720" cy="1957320"/>
          </a:xfrm>
          <a:prstGeom prst="rect">
            <a:avLst/>
          </a:prstGeom>
          <a:ln w="0">
            <a:noFill/>
          </a:ln>
        </p:spPr>
      </p:pic>
      <p:grpSp>
        <p:nvGrpSpPr>
          <p:cNvPr id="76" name="Управляющая кнопка: фильм 4"/>
          <p:cNvGrpSpPr/>
          <p:nvPr/>
        </p:nvGrpSpPr>
        <p:grpSpPr>
          <a:xfrm>
            <a:off x="8259840" y="6119640"/>
            <a:ext cx="615960" cy="470160"/>
            <a:chOff x="8259840" y="6119640"/>
            <a:chExt cx="615960" cy="470160"/>
          </a:xfrm>
        </p:grpSpPr>
        <p:pic>
          <p:nvPicPr>
            <p:cNvPr id="77" name="Управляющая кнопка: фильм 4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8259840" y="6119640"/>
              <a:ext cx="61596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286840" y="6143760"/>
              <a:ext cx="5713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0" y="1357200"/>
            <a:ext cx="378612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течение сентября, октября и ноября на город было совершено около 100 налетов и сброшено 64930 зажигательных и 3055 фугасных бомб. Всего же за время блокады на Ленинград было сброшено 102520 зажигательных  и 4653 фугасные бомб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1494000" y="231840"/>
            <a:ext cx="647352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ww.sc-os.ru/common/upload/photogallery/sport_objects/pano_olympic_park/Oct_11.jpg"/>
          <p:cNvPicPr/>
          <p:nvPr/>
        </p:nvPicPr>
        <p:blipFill>
          <a:blip r:embed="rId1"/>
          <a:stretch/>
        </p:blipFill>
        <p:spPr>
          <a:xfrm>
            <a:off x="0" y="0"/>
            <a:ext cx="92584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5929200" y="64296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1 БОМ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179280" y="2340000"/>
            <a:ext cx="8507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 К моменту снятия блокады в городе не осталось ни одного полностью уцелевшего квартала. Несмотря на принятые меры, пострадали многие памятники архитектуры. Были повреждены Адмиралтейство, Инженерный замок и др. (В одни только Нарвские ворота попало около 2 000 осколков). Значительные разрушения претерпело здание Кировского театра оперы и балета (Мариинского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4" descr="https://encrypted-tbn3.gstatic.com/images?q=tbn:ANd9GcSl3_Z7NvClDk85VJZg8iRqZDz7E3mHC6hb7dFMmqBkJiNcWoTe"/>
          <p:cNvPicPr/>
          <p:nvPr/>
        </p:nvPicPr>
        <p:blipFill>
          <a:blip r:embed="rId1"/>
          <a:stretch/>
        </p:blipFill>
        <p:spPr>
          <a:xfrm>
            <a:off x="158760" y="357120"/>
            <a:ext cx="89852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http://www.ifmo.ru/images/news/big/p2640.jpg"/>
          <p:cNvPicPr/>
          <p:nvPr/>
        </p:nvPicPr>
        <p:blipFill>
          <a:blip r:embed="rId1"/>
          <a:srcRect l="0" t="7665" r="0" b="8035"/>
          <a:stretch/>
        </p:blipFill>
        <p:spPr>
          <a:xfrm>
            <a:off x="77760" y="857160"/>
            <a:ext cx="906624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3T13:53:31Z</dcterms:created>
  <dc:creator>Admin</dc:creator>
  <dc:description/>
  <dc:language>en-US</dc:language>
  <cp:lastModifiedBy>user</cp:lastModifiedBy>
  <dcterms:modified xsi:type="dcterms:W3CDTF">2015-03-31T06:29:39Z</dcterms:modified>
  <cp:revision>66</cp:revision>
  <dc:subject/>
  <dc:title>Слайд 1</dc:title>
</cp:coreProperties>
</file>